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11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55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5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9E4-E3FA-42BA-9B16-5348D8BD3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250-7186-42DF-906B-EE168724BA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20B8-5D9A-44A4-94F6-599FF34329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A464-C74F-49E7-9701-3579A4A573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F40-4A70-4A58-89A4-CB227FEBEE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C96-AB31-4FAA-8A66-90AD86771E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AC8-B83E-41DE-A4EC-BC6E0EFCE0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B7BD-36A8-4FF8-8380-56FB6A1F17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6DE-9CC3-47A1-802E-B2E9DEB795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763-6D94-42AE-B0CE-C4161B26F9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2B71-FD99-457F-8F68-BFE8E43B7C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7B1-C7AF-42F6-AF81-5834CB21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618-9E05-47E2-90CD-6211096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121D9-8C31-4D01-8FEA-C0BEFE0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647B4-7520-4B8A-BB88-9D27589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4492D-25C0-436C-966F-1641B6C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55B55-0A40-4BC2-A66C-11C19088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05020-0979-4900-A917-BEE86BD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A00C2-B4FA-4E6F-BF91-B1395A5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AE4DB-5F2C-4870-97E1-56AD3BEA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175F41-D9B6-4C46-86F8-BFE467C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BD3BF-B171-4F8C-8146-C9BED25A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59B-9850-453C-819C-28DEA4C7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3BD-BAD6-49C7-9E5F-2010273E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A5BF3-8228-4481-94DA-075C3A5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74F2A-F12A-4869-9EA7-5FA166F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595E-1B5E-40C3-98E6-0A54888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21A1-53E4-4657-924A-B7E05BB3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B5589-FB0D-4883-BB89-941A02B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A087-AD1F-400D-AEDC-78C2704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EA83F-8612-4C56-A7E3-6366E1F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BA1-53CC-4DA7-8705-DA236AC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FE54-593D-4C18-A008-D783817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4F4E8-CA13-4007-8D4B-D29858F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0247B-EFE6-43A0-86CA-B709664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C96F2-D403-4423-8DC8-4EEC99E4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6B216-02D3-4309-B287-40D94E1C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CDED-5DDE-43FA-9393-DFAC30A4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5BCB-A4E2-4D4C-B11D-21823B1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E776-7676-4BF0-A106-977582A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2828-5A83-47DD-9797-A6C95CE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261C-32D8-436B-A4E0-72B13C4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970-5541-4AE8-94CD-869BEAC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AF4B-13DE-47E9-823C-FE3D7917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CE4E-5F6C-44BF-998B-0D7B73D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1DCB-7531-4E56-AFDA-A2373CA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367E-0D11-4EBB-AA24-B8DAFFA2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681F-E52B-4666-9245-92ECA4B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54A43-EA68-4804-A72A-CEBC1136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EED7-6385-420E-B938-82DFBD3C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2B65A-BE7B-4257-BC44-A9CC287D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C666C-62C4-4B48-8EAF-30D69FB5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25A44-D21F-4BB6-8155-1D8B45F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5A1-33E1-4289-88A7-4AF6D8A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59311-BF70-4DF6-A66F-72B31C8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BD7D1-3152-4CAC-8041-55FE5DE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11F5C-2200-47BF-81C6-D721FAC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273BA-7659-4D63-A07E-BD16B5D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2E245-E96E-443F-8D83-E1308AB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048B9-A3B7-49B7-B7EA-C26E0DF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7D6DB-48C9-4204-A4FF-1283238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A106E-661F-476C-AE8D-54E28313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EF6E8-884E-48C5-805A-EBFAEA89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0DD4-F185-42FF-9721-6CEF3A8A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22C-4BAE-4E69-BE5E-B8B09857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D343-270D-4C1C-8A2F-71C44A92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5038-04C6-4B47-80D1-955EF22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930E-74DD-4474-9FE0-94FBFCC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5EDD-E39E-43A0-839D-F573EB4B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38FA-337E-4242-B805-A7872F8F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CEDF-E1E5-45F1-A2F0-8465B03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52C3-F989-4689-A388-3DED1D4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C3D2-9948-4653-B251-D7A02D9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6BE24-1A67-4A32-AEB7-AD63F36B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B5C3-F7B6-4470-8FE1-A60B8DDB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740-BED3-4B94-8476-6BC8385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F394-1B18-4372-865F-40AF5534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8657-025E-4227-A246-E9FD13D6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294E-520B-4B0F-9F8C-96D8774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17A1-8BDE-463F-92EF-718442C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B1E5-2047-4BC0-9483-233435A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2BBB-A389-47D9-B6C1-48F3AC0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DA8D-1D97-4E49-A002-26C8B087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DB5F-531A-42E7-88CC-A26BF75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4D1F-E000-429C-9F82-D03C03D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7051-32AF-4ED7-88E0-F9B7257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D4D-603B-4F07-9BFE-07405F7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BAF3-9FD9-4618-8971-C60DA5A1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AADC-3065-4F4C-8D03-233B9936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52717-2698-4CC7-9323-85500499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60A4-FE06-4934-8781-C52A8436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8803-298E-4B32-93F4-19D667DC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87D8-934F-4901-93CB-715327E3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5BCCA-C2DA-45A2-9379-541D726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AA88-9B18-4628-9BD9-022D7A5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0B3B-743B-4594-B60D-FE9D2ECD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59CC-0CC3-4D26-82AB-66A4170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1CE-2B4E-460E-8E33-04C2A6E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EBC0-049E-479F-B423-3BD99822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633A4-8D11-4906-A043-FF867D47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E2139-9F2F-45DA-9EBA-8C08694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D6AF-79E5-4A54-95CE-4F116DA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32B6-579A-4418-A2FE-6F070E27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F1696-3B98-450D-9F35-3E12CF0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5834A-21F0-4BBD-A2EA-BDCB790A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D5DC6-9038-45B0-88AC-0CDD7600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1AEA7-FA0A-4384-9238-BBD6448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A03E2-55B2-4217-AEEB-B28BF4F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B16-EB2C-458B-90DA-FA68A9D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6587E-7246-469E-94D8-DF8FE52B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046A1-302F-4BE3-A357-3F4293A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F1E49-893B-40AA-AC32-48B0411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98752-6300-4D5E-87E7-C01664A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103F9-7CDC-4B32-8608-56B0A256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AB14D-72EF-4750-88EC-6112859E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7D603-A84B-43FD-8BC3-0256DF82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465AF-5DC1-49D0-B54C-E61CD2F7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4F6D2-1882-4416-B3D9-BFC4CB97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54A27-A2A5-497E-82ED-DE1DA49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4303-D0B3-4DF0-B394-8CE499F375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FBC1-4389-4468-B30D-78180FBFA3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1B1B-8148-4EE7-BCCF-A4A89E5608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057-DAC7-4522-8218-4070058311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C43-7D37-4586-9CB1-88D4431EE4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090-8086-4888-96FC-3C19A0150B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C4BE-5875-4F40-AF9E-C9C3517ED9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4FC-8FB7-4DCF-8BE7-5E0F8F25913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76D-B06A-4316-AEA3-DAC7F4A60D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Imagine you are a soldier who is returning home from war: 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are some things that you might want to do when you get home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ir nam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re are they fro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branch of the service? (Army, Navy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theater of war? (Europe, Pacific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d they go to colleg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was their majo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d they take advantage of the GI Bil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career path did they choos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y might a returning soldier want to return to schoo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obstacles that might prevent that soldier from returning to schoo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724536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45: Millions of soldiers return home from the war seeking a chance at the “American Dream”…How did America respond?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8" name="MS900431066[1].wav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Rob\Local Settings\Temporary Internet Files\Content.IE5\U6LQL875\MP900305845[1].jpg"/>
          <p:cNvPicPr/>
          <p:nvPr/>
        </p:nvPicPr>
        <p:blipFill>
          <a:blip r:embed="rId3"/>
          <a:stretch/>
        </p:blipFill>
        <p:spPr>
          <a:xfrm>
            <a:off x="990720" y="228600"/>
            <a:ext cx="1371600" cy="1119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endwarkiss.jpg"/>
          <p:cNvPicPr/>
          <p:nvPr/>
        </p:nvPicPr>
        <p:blipFill>
          <a:blip r:embed="rId4"/>
          <a:stretch/>
        </p:blipFill>
        <p:spPr>
          <a:xfrm>
            <a:off x="1295280" y="16765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0"/>
          <p:cNvSpPr/>
          <p:nvPr/>
        </p:nvSpPr>
        <p:spPr>
          <a:xfrm>
            <a:off x="1295280" y="4191120"/>
            <a:ext cx="251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Rockwell"/>
              </a:rPr>
              <a:t>Photo courtesy of http://gi.grolier.com/wwii/photos/wwii_photos.html</a:t>
            </a:r>
            <a:endParaRPr b="0" lang="en-US" sz="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11" descr="goodbyetogi.jpg"/>
          <p:cNvPicPr/>
          <p:nvPr/>
        </p:nvPicPr>
        <p:blipFill>
          <a:blip r:embed="rId5"/>
          <a:stretch/>
        </p:blipFill>
        <p:spPr>
          <a:xfrm>
            <a:off x="6477120" y="3809880"/>
            <a:ext cx="1930320" cy="2438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2"/>
          <p:cNvSpPr/>
          <p:nvPr/>
        </p:nvSpPr>
        <p:spPr>
          <a:xfrm>
            <a:off x="6553080" y="6248520"/>
            <a:ext cx="1828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Rockwell"/>
              </a:rPr>
              <a:t>http://papergreat.blogspot.com/2011/06/rev-rickards-complimentary-copy-of-good.html</a:t>
            </a:r>
            <a:endParaRPr b="0" lang="en-US" sz="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3962520" y="1676520"/>
            <a:ext cx="4495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 8, 1945: Allies declare victory in Europe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ugust 15, 1945: Japan announces its surrender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he War is Over!!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838080" y="4724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llions of American soldiers return…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1295280" y="5791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t how would America integrate them back into society?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94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erviceman’s Readjustment Act of 1944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(G.I. Bill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Backgroun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ome asked if it was right to pay  returning soldier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hould military service entitle one to government benefits or should it be an obligation to one’s country?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ongress hoped to avoid a repeat of the “Bonus Army” standoff that gripped Washington D.C. in 1932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resident Franklin D. Roosevelt signs G.I. Bill into law June 1944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3" descr="C:\Documents and Settings\Rob\Local Settings\Temporary Internet Files\Content.IE5\69JE64VS\MC900329197[1].wmf"/>
          <p:cNvPicPr/>
          <p:nvPr/>
        </p:nvPicPr>
        <p:blipFill>
          <a:blip r:embed="rId2"/>
          <a:stretch/>
        </p:blipFill>
        <p:spPr>
          <a:xfrm>
            <a:off x="990720" y="380880"/>
            <a:ext cx="1082520" cy="7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Benefits for Returning G.I.’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Eligible for money to further one’s education at any college, university, trade school or vocational schoo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Eligible for low interest home loans with zero money dow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52-20 Clause: Enabled all former servicemen to receive $20 a week in unemployment benefits for 52 week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2" descr="C:\Documents and Settings\Rob\Local Settings\Temporary Internet Files\Content.IE5\272ZSMW3\MP900305843[1].jpg"/>
          <p:cNvPicPr/>
          <p:nvPr/>
        </p:nvPicPr>
        <p:blipFill>
          <a:blip r:embed="rId2"/>
          <a:stretch/>
        </p:blipFill>
        <p:spPr>
          <a:xfrm>
            <a:off x="762120" y="2286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Were G.I. Bill benefits open to African Americans?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--Yes…in theory.  Although there was nothing in the bill that specifically barred African Americans from receiving benefits, far fewer African Americans actually received them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Rockwell"/>
              </a:rPr>
              <a:t>Why???</a:t>
            </a:r>
            <a:endParaRPr b="0" lang="en-US" sz="5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Picture 2" descr="C:\Documents and Settings\Rob\Local Settings\Temporary Internet Files\Content.IE5\5AY0LMZF\MC900333308[1].wmf"/>
          <p:cNvPicPr/>
          <p:nvPr/>
        </p:nvPicPr>
        <p:blipFill>
          <a:blip r:embed="rId2"/>
          <a:stretch/>
        </p:blipFill>
        <p:spPr>
          <a:xfrm>
            <a:off x="1143000" y="228600"/>
            <a:ext cx="8985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olitical Climate: Some of the biggest supporters of the G.I. Bill were avid segregationist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overty: Many African Americans were impoverished before the war and came back to the same circumstances.  Many could not afford to go college because they had to find work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iscrimination: Many colleges and universities were segregated and/or had quota systems that restricted the number of African Americans who could be admitte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Lack of resources: Black colleges and universities were usually among the poorest schools and often found themselves unable to make room for all the returning G.I.’s who wanted to atten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Picture 2" descr="C:\Documents and Settings\Rob\Local Settings\Temporary Internet Files\Content.IE5\8LPDKLMI\MC900337882[1].wmf"/>
          <p:cNvPicPr/>
          <p:nvPr/>
        </p:nvPicPr>
        <p:blipFill>
          <a:blip r:embed="rId2"/>
          <a:stretch/>
        </p:blipFill>
        <p:spPr>
          <a:xfrm>
            <a:off x="838080" y="152280"/>
            <a:ext cx="1219320" cy="107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Results of the G.I. Bill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% of World War II veterans used G.I. Bill benefits to further education and/or buy a hous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ly 20% of African American veterans who applied for education benefits were able to use th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Picture 2" descr="C:\Documents and Settings\Rob\Local Settings\Temporary Internet Files\Content.IE5\U6LQL875\MP900305845[1].jpg"/>
          <p:cNvPicPr/>
          <p:nvPr/>
        </p:nvPicPr>
        <p:blipFill>
          <a:blip r:embed="rId2"/>
          <a:stretch/>
        </p:blipFill>
        <p:spPr>
          <a:xfrm>
            <a:off x="762120" y="380880"/>
            <a:ext cx="1295280" cy="8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3:13:20Z</dcterms:created>
  <dc:creator>Rob</dc:creator>
  <dc:description/>
  <dc:language>en-US</dc:language>
  <cp:lastModifiedBy>Rob</cp:lastModifiedBy>
  <dcterms:modified xsi:type="dcterms:W3CDTF">2012-02-13T04:38:50Z</dcterms:modified>
  <cp:revision>25</cp:revision>
  <dc:subject/>
  <dc:title>Slide 1</dc:title>
</cp:coreProperties>
</file>